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6.wmf" ContentType="image/x-wmf"/>
  <Override PartName="/ppt/media/image19.jpeg" ContentType="image/jpeg"/>
  <Override PartName="/ppt/media/image9.jpeg" ContentType="image/jpeg"/>
  <Override PartName="/ppt/media/image11.png" ContentType="image/png"/>
  <Override PartName="/ppt/media/image3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  <p:sldId id="326" r:id="rId82"/>
    <p:sldId id="327" r:id="rId83"/>
    <p:sldId id="328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slide" Target="slides/slide71.xml"/><Relationship Id="rId83" Type="http://schemas.openxmlformats.org/officeDocument/2006/relationships/slide" Target="slides/slide72.xml"/><Relationship Id="rId84" Type="http://schemas.openxmlformats.org/officeDocument/2006/relationships/slide" Target="slides/slide73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ED6-44F4-451D-B25C-3E319810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A18-6E33-46F2-8CE1-04E33F42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4586A-6F10-4CEF-8810-60EF163D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6DF0D-1760-4CE6-8BB6-FCE30841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2D7AB-F646-43E9-9E01-B9BFB775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89C72-336A-4DB9-9AD0-D09AD1ED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D8CF9-77AC-4C92-8F2F-628F588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9DEFE-AA14-49EA-80E5-41613B98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B2324-3441-4A14-BC67-D57AF227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5B56A-BEBF-4F3A-97E0-57CE5D2A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515DD-6F64-478A-B8EB-ABF3A443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557FD-6326-40D5-ADFB-8BD62F81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78F-3653-4FE3-8F93-9A3ADBA3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79417-6721-4AD4-A1F0-1EDD9ACA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D1E4B-7E4F-463C-9361-B65DB3D6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FEDEC-C7CD-4217-9BDA-93091894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EB0A0-8D13-4FEB-8B82-8478E382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ACFA2-705F-4D08-ACCF-A0ECE70D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B0429-9333-4180-A3D8-D0BB8F5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82AA1-7C08-4958-9F23-55211357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C1DD7-A69C-445D-9739-6708E712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E60BA-850E-463C-95EC-ADBE779C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7DB6A-875A-4497-A32C-9EF6C39C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75C-AA10-41F7-AC64-94902E9A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CC2A4-5B19-4752-9B28-8901E299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1DC1-2300-410F-98F7-0DC9ABC1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1F69-5534-4F7A-9C85-49615B27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FC08-CA9D-474A-A7E2-A91DDA4D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D957-9347-4533-990D-57638174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3E3A-CC18-41D6-BC67-C4ACB0ED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7A61-359E-4467-9AF2-E8F73552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BE64-CE16-446D-9463-7BEB778C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FF8-C702-48C6-8D45-900A7DB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6D0F-D39D-4A98-B50C-1BFCF28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CBE5-83F1-4429-9D5B-741BE63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C2FA-B2B8-4E29-89B1-EA700576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BBAD-024C-42E2-9EB6-B84B1786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B6DB-89A8-4EC3-BABC-B19EA2B5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250C-F4C6-4050-8716-9CBA5A5F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0513-57C3-424E-BC94-4ADAADAC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5F29-B0D3-4034-9419-9E9BCE24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628C-9066-4011-A32C-CF1F4C7C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68B2-719A-4FB1-B2CB-A86260C0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D12-9078-4856-8CE2-8965EB72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5AC8-74F4-4F3F-9463-80607458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32F6-E309-4C3B-B624-FB5BBBBD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9CAC-E2F0-44A9-9A9B-2DDF982D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6C84-344F-458A-BEFA-80EF29F6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AF27-F104-4EAD-ADD0-33A7A73B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D361-1E8D-48BD-A7A6-EA5EB613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A8DE-D669-44BF-A6DA-10A2BEA4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AAF2-C737-4965-B160-3B3B417E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359DD-2F9E-4ADB-A9C3-53930482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65D0-CD46-4CF9-892F-F03D9390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561-22B0-404D-9A07-C936E70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C98E-F0C7-43C4-9E05-44E01EC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3B92-8EFD-4EAB-82C3-94ACB14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1626-9F8A-4E54-B9ED-05B1BB4C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A2FF-1DBB-4801-AB0A-2B0F5B2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0829-9E1D-4716-9880-2637012B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5D52-83C8-48A6-90B5-5FFD3A5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9ED8D-13B9-434A-B405-A8CA2F13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40E4-911D-4FB7-9B1D-3E1013F1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94BE-61D0-40A6-81F2-7022BF21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BE5BA-88E8-45C4-A31B-F9B23ABE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E65-6C98-45AF-B38B-24D8D97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3FE1-A797-4214-B8E1-EE21CF1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D309-6C90-40F0-A811-98AEE8B7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76DE-ECF9-440F-A5CF-73CA2DD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CDAA-DAFD-4418-8941-F3213E23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0E671-4B72-4215-AEB2-4CC97D87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4383-E3B4-4D9A-8AAB-D9A562F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522CB-899E-49B4-9360-B6C9EFA5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B37A9-A2A1-4197-B395-ACC68DA8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5647-D15E-4EA0-B32D-D97C6C7A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1FB95-7CD7-40E2-89C5-8A3FB213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283-BC0F-4A3C-A0DD-B92DC258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8DAA2-4204-467F-AB0E-0502FD39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4B1B-BBCC-47D3-89C6-89C25BF9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CE766-E65A-4576-8041-79786FC8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AC9CE-4912-48F9-B7E2-2B282AF8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48576-C6A0-494E-B4F4-0EDDA18E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F84B4-E173-47C9-A825-08FEBA75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7E55B-6492-469C-A4A6-C8AD898C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567EC-B163-48D0-94DF-95CE057C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CB718-0715-4D24-A13C-D014ECC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6AD6F-1A6C-41E9-8446-2E5CAA67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F91-7B2C-45BB-ADC1-8D0B2434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969A5-A86B-441A-9498-C35D4CAF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A9F5-7DA8-4D39-983B-FDE10250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6962B-6154-424D-9FD4-93CD7CA7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6716A-5301-452A-8B65-E1909008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F2CFF-6B4E-493E-8798-77FA28C1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C1612-DB16-4666-B603-73824772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A70C4-E0EA-482B-89A6-40969C04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3817C-0594-4071-A124-C10DDEB3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FD788-B251-46AE-8018-2FCC6D98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2C5D-3180-4F97-8162-7A56E49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AE7-F2EF-498D-8631-E3E3632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09D58-FA29-40AA-9446-59D8C4D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0880-21BE-48EF-BDAE-A70450FC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1A982-17C0-4DCF-8092-4A4B8140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DD147-341A-4E35-A9ED-44CC92D5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4E055-E6C1-41E6-913D-EC829AFA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BB09A-469D-4DA9-BF1C-C659DC5C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51B5D-8C0E-4235-B729-FCFED626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5461-CB30-4252-829B-08D9DAA8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9F7F-7E33-438C-BA16-6E026FF3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87154-819C-4392-8427-3A479F46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F8D-4B96-45C9-ADC9-37F72A1B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C036D-DC56-4836-8B69-240E61B4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76DFA-CD76-4978-9631-D9C25CD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F3D6F-D2A6-4D30-926C-003C1642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C46D-D54C-4DA9-A574-70047577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83330-71E9-499F-BAC9-E4A587E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00E1A-FDE2-4BEE-A264-4498E2A7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939F2-344C-4C2F-8417-3E9DDD4A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45250-257E-496C-9973-EEA39DAB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1C6FE-CC94-4F80-A9A2-E35EC8C0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C7BBC-B028-40EF-9C4E-4CEF07F2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1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" name="Rectangle 6"/>
              <p:cNvSpPr/>
              <p:nvPr/>
            </p:nvSpPr>
            <p:spPr>
              <a:xfrm>
                <a:off x="414000" y="2967480"/>
                <a:ext cx="42192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781920" y="2967480"/>
                <a:ext cx="36792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E965D-E343-4045-BEEF-565C455057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BCBEC-1862-47EF-B448-7ECE505F788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1BE21-9062-4661-BB14-C68CAEC7289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FCBD3-E33B-4729-AA12-987E4C783EC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E5BBB-AC1F-41E2-9E7A-1692AD151BC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3953B-988B-48BC-AC62-1D27BB9AE48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208D9-6336-46DA-9A38-729A9581AC1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235F6-6BB7-4B64-89E4-66A96B1AE5E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6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7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7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1F965-D281-4A27-9040-00B0C0484B5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DB783-EED4-4B21-AE56-2A0AE23D1F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С.Милетић Дракулић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Патолошка класификац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14400" y="1784520"/>
            <a:ext cx="4371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нопатије (демијелинизација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сонопатије (атрофије аксона и Валерову дегенерацију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ронопатије(оштечено тело неуро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5143680" y="1071720"/>
            <a:ext cx="37861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c1eeff"/>
                </a:solidFill>
                <a:uFillTx/>
                <a:latin typeface="Times New Roman"/>
                <a:ea typeface="Times New Roman"/>
              </a:rPr>
              <a:t>Класификација  зависно од механизма настанка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патије дугих влакана- дисталне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ијабетична неуропатиј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патије кратких влакана- проксималн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сеудомиопатски тип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патије са механизмом настанка  који не зависи од дужине нерава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Неуропатије са захватањем само једног нерва назива се </a:t>
            </a:r>
            <a:r>
              <a:rPr b="0" lang="sr-RS" sz="3000" spc="-1" strike="noStrike">
                <a:solidFill>
                  <a:srgbClr val="ff0000"/>
                </a:solidFill>
                <a:latin typeface="Corbel"/>
              </a:rPr>
              <a:t>мононеуропатија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уропатије са сукцесивним захватањем више од једног  нерва   називају се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мултипле мононеуропатиј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Чешће захватање захватање више нерава свих екстремитета </a:t>
            </a:r>
            <a:r>
              <a:rPr b="0" lang="sr-RS" sz="3000" spc="-1" strike="noStrike">
                <a:solidFill>
                  <a:srgbClr val="ff0000"/>
                </a:solidFill>
                <a:latin typeface="Corbel"/>
              </a:rPr>
              <a:t>полинеуропат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Клиничка класификац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Клиничка класификац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Кранијалне неуропатиј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ериферне  неуропатиј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мптоми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66"/>
                </a:solidFill>
                <a:latin typeface="Corbel"/>
              </a:rPr>
              <a:t>Сензитивни симптом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66"/>
                </a:solidFill>
                <a:latin typeface="Corbel"/>
              </a:rPr>
              <a:t>позитивни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слабос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бо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паљењ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боцкањ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Ходање по камењу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жарењ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нестабилнос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5" name="Picture 6" descr="ANd9GcR0FrYmADbqzRrgPYLzWUpFMHkbwjiUP2e10FeiXXr9XoK5Lm8&amp;t=1&amp;usg=__liexakOzemxuZ2WEnsxd2KdBFeU="/>
          <p:cNvPicPr/>
          <p:nvPr/>
        </p:nvPicPr>
        <p:blipFill>
          <a:blip r:embed="rId1"/>
          <a:stretch/>
        </p:blipFill>
        <p:spPr>
          <a:xfrm>
            <a:off x="5638680" y="487692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ANd9GcRXjWsdUgclDjkyp3-OxkVR0uPFDi9oflRwl3eaF8fJcMMLwdI&amp;t=1&amp;usg=__e6KYv7M0ZccoSG8UqZObkh8d8ns="/>
          <p:cNvPicPr/>
          <p:nvPr/>
        </p:nvPicPr>
        <p:blipFill>
          <a:blip r:embed="rId2"/>
          <a:stretch/>
        </p:blipFill>
        <p:spPr>
          <a:xfrm>
            <a:off x="5486400" y="304920"/>
            <a:ext cx="2313000" cy="2313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"/>
          <p:cNvPicPr/>
          <p:nvPr/>
        </p:nvPicPr>
        <p:blipFill>
          <a:blip r:embed="rId3"/>
          <a:stretch/>
        </p:blipFill>
        <p:spPr>
          <a:xfrm>
            <a:off x="5410080" y="28195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700" spc="-1" strike="noStrike">
                <a:solidFill>
                  <a:srgbClr val="ffff66"/>
                </a:solidFill>
                <a:latin typeface="Consolas"/>
              </a:rPr>
              <a:t>Сензитивни симптоми</a:t>
            </a:r>
            <a:br>
              <a:rPr sz="3700"/>
            </a:br>
            <a:r>
              <a:rPr b="0" lang="sr-CS" sz="3700" spc="-1" strike="noStrike">
                <a:solidFill>
                  <a:srgbClr val="ffff66"/>
                </a:solidFill>
                <a:latin typeface="Consolas"/>
              </a:rPr>
              <a:t>негативни</a:t>
            </a:r>
            <a:endParaRPr b="0" lang="en-US" sz="37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смањење осећаја додир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(hipestezija)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Смањење бола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(hipalgezij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Постурална нестабилнос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невољни покрети(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seudoatetoza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c1eeff"/>
                </a:solidFill>
                <a:latin typeface="Consolas"/>
              </a:rPr>
              <a:t>Дистрибуција губитка сензебилитета</a:t>
            </a:r>
            <a:br>
              <a:rPr sz="2800"/>
            </a:br>
            <a:r>
              <a:rPr b="0" lang="sr-RS" sz="2800" spc="-1" strike="noStrike">
                <a:solidFill>
                  <a:srgbClr val="c1eeff"/>
                </a:solidFill>
                <a:latin typeface="Consolas"/>
              </a:rPr>
              <a:t>„чарапе и рукавице“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813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794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        </a:t>
            </a: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Merenje bola kod bolesnik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Početak i trajanj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Lokacija/distribucij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kvalit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intezivnos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pojačavajući faktori/poboljšavajući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Udruženost sekundarnih znaka/simptom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Udruženi faktori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Emocionalni poremećaj(depresija, anksioznost, poremćaj spavanja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Socijalno i  profesionalno funkcionisanj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rbel"/>
              </a:rPr>
              <a:t>Odgovor na tretma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4" name="Picture 7" descr="Slika4"/>
          <p:cNvPicPr/>
          <p:nvPr/>
        </p:nvPicPr>
        <p:blipFill>
          <a:blip r:embed="rId1"/>
          <a:stretch/>
        </p:blipFill>
        <p:spPr>
          <a:xfrm>
            <a:off x="-71280" y="0"/>
            <a:ext cx="813564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1"/>
          <p:cNvSpPr/>
          <p:nvPr/>
        </p:nvSpPr>
        <p:spPr>
          <a:xfrm>
            <a:off x="3059280" y="220680"/>
            <a:ext cx="187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Аутономни симптоми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Поремећај знојењ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Осећај хладноће у стопалим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Трофичне промене на кож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Смањење маљавос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8" name="Picture 0" descr="image006_sređena.png"/>
          <p:cNvPicPr/>
          <p:nvPr/>
        </p:nvPicPr>
        <p:blipFill>
          <a:blip r:embed="rId1"/>
          <a:stretch/>
        </p:blipFill>
        <p:spPr>
          <a:xfrm>
            <a:off x="5508720" y="3573360"/>
            <a:ext cx="238896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Испад мотори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Хипотрофије( аксоналне неуропатије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ишићне слабости  ( дисталне слабости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Фасцикулације, крамп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1eeff"/>
                </a:solidFill>
                <a:latin typeface="Consolas"/>
              </a:rPr>
              <a:t>Функција пнс је да преноси импулсе у и из централног нервног система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572000" cy="5472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4581360" y="2924280"/>
            <a:ext cx="45720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Детаљно неуролошко испитивањ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234800" y="1584000"/>
            <a:ext cx="33368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алодинија: бол од стимулуса који нормално не изазива бо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хипералгезија:појачан осећај бола на надражај који је  нормално болан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хиперестезија:појачан доживљај тактилних држи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парестезија:спонтана или  изазвана  абнормална тактилна сензација трњењ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Дизестезија спонатна или изазивана  непријатна  абнормална сензациј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3" name="PINPRICK_LQ.wmv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2222280" cy="1660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rcRect l="50365" t="0" r="0" b="63768"/>
          <a:stretch/>
        </p:blipFill>
        <p:spPr>
          <a:xfrm>
            <a:off x="5796000" y="2781360"/>
            <a:ext cx="2219400" cy="1682640"/>
          </a:xfrm>
          <a:prstGeom prst="rect">
            <a:avLst/>
          </a:prstGeom>
          <a:ln w="0">
            <a:noFill/>
          </a:ln>
        </p:spPr>
      </p:pic>
      <p:pic>
        <p:nvPicPr>
          <p:cNvPr id="575" name="VIBRATION.wmv" descr=""/>
          <p:cNvPicPr/>
          <p:nvPr/>
        </p:nvPicPr>
        <p:blipFill>
          <a:blip r:embed="rId3"/>
          <a:stretch/>
        </p:blipFill>
        <p:spPr>
          <a:xfrm>
            <a:off x="5791320" y="4575240"/>
            <a:ext cx="22222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Испитивање  сензибилите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Corbel"/>
              </a:rPr>
              <a:t>Semmes-Weinstein”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монофиламента за испитивање лаког додир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На 10 тачака  испитује се могућност  да осете појединачну тачку притиска  монофиламента у трајању од 1с који представља силу од 10г у датој тачки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Свака тачка се проверава укупно три пута и уколико пацијент не осети притисак монофиламента два или три пута   позитиван је знак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Немогућност да се осети притисак монофиламента сматра се независним фактором предикције постојања ризика од развоја улцерација на стопалу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8" name="Picture 2" descr="image011_sređena.jpg"/>
          <p:cNvPicPr/>
          <p:nvPr/>
        </p:nvPicPr>
        <p:blipFill>
          <a:blip r:embed="rId1"/>
          <a:stretch/>
        </p:blipFill>
        <p:spPr>
          <a:xfrm>
            <a:off x="3851280" y="4365720"/>
            <a:ext cx="25239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Узроци стечених неуропат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РАУМАТСКЕ НЕУРОПАТИЈЕ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ОКСИЧНЕ НЕУРОПАТИЈЕ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ЕУРОПАТИЈЕ КОД ИНФЕКТИВНИХ БОЛЕСТИ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НФЛАМАТОРНЕ НЕУРОПАТИЈЕНЕУРОПАТИЈЕ УДРУŢЕНЕ СА МОНОКЛОНСКОМ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АМОПАТИЈОМ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ЕУРОПАТИЈЕ КОД МАЛИГНИХ БОЛЕСТИ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ЕУРОПАТИЈЕ УДРУЖЕНЕ СА СИСТЕМСКИМ БОЛЕСТИМА ВЕЗИВ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ЕТАБОЛИЧКЕ НЕУРОПАТИЈЕ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c1eeff"/>
                </a:solidFill>
                <a:latin typeface="Consolas"/>
              </a:rPr>
              <a:t>Клинички ток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457200" y="1371600"/>
          <a:ext cx="7848720" cy="4087800"/>
        </p:xfrm>
        <a:graphic>
          <a:graphicData uri="http://schemas.openxmlformats.org/drawingml/2006/table">
            <a:tbl>
              <a:tblPr/>
              <a:tblGrid>
                <a:gridCol w="2038320"/>
                <a:gridCol w="2381400"/>
                <a:gridCol w="1828800"/>
                <a:gridCol w="1600200"/>
              </a:tblGrid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акутн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(</a:t>
                      </a:r>
                      <a:r>
                        <a:rPr b="1" lang="sr-R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дани</a:t>
                      </a:r>
                      <a:r>
                        <a:rPr b="1" lang="en-U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субакутн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(</a:t>
                      </a:r>
                      <a:r>
                        <a:rPr b="1" lang="sr-R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недеље и месеци</a:t>
                      </a:r>
                      <a:r>
                        <a:rPr b="1" lang="en-U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Хронични 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5f7791"/>
                          </a:solidFill>
                          <a:latin typeface="Arial"/>
                        </a:rPr>
                        <a:t>Релапсно/ремитетни 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llain-Barré syndro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кспозитура лековима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ередитар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llain-Barré syndro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phyr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утриционе дефицијенциј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hther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аболичк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V/AID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lliu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neoplastic </a:t>
                      </a:r>
                      <a:r>
                        <a:rPr b="0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р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ч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phyr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84" name="Picture 5" descr="grafikon_irina.jpg"/>
          <p:cNvPicPr/>
          <p:nvPr/>
        </p:nvPicPr>
        <p:blipFill>
          <a:blip r:embed="rId1"/>
          <a:stretch/>
        </p:blipFill>
        <p:spPr>
          <a:xfrm>
            <a:off x="826920" y="1052640"/>
            <a:ext cx="79203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дијагнос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Лабораторијска испитивањ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хемограм са седиментацијом, ниво гликемије, хепатограм, електролите, ниво Б12, електрофорезу протеина са имунофиксацијом, тиреоидни статус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Цитобиохемијско испитивање ликвора није рутински тест у дијагностици неуропатија( акутног  полирадикулонеуритиса, различитих системских, инфективних и неопластичних болести 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Електромиографиј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Генетској тј. анализи ДНК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Биопсија нерва и коже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најчешћа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br>
              <a:rPr sz="4000"/>
            </a:b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Метаболичке и ендокр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0000"/>
                </a:solidFill>
                <a:latin typeface="Corbel"/>
              </a:rPr>
              <a:t>Дијабетична полинеуропат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25% има симптоме неуропатиј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50% неуропатија на основу  неуролошког преглед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90%   ЕМНГ (субклиничке неуропатије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eeff"/>
                </a:solidFill>
                <a:latin typeface="Consolas"/>
              </a:rPr>
              <a:t>ИМУНСКИ ПОСРЕДОВАНЕ НЕУРОПАТИЈ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9280" y="1784520"/>
            <a:ext cx="8712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акутна инфламаторна полирадикулонеуропат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хронична инфламаторна демијелинизациона полирадикулонеуропат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мултифокална моторна неуропат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дисимуне и васкулитичне неуропатиј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eeff"/>
                </a:solidFill>
                <a:latin typeface="Consolas"/>
              </a:rPr>
              <a:t>GUILLAIN-BARREOV SINDROM – GBS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0,8 до 1,9 на 100.000 становник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јчешћим узроком акутне млитаве парализ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Етиологија ГБС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У 2/3 случајева  након претходне гастроинтестиналне или респираторне инфекције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Corbel"/>
              </a:rPr>
              <a:t>bakterijom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de-DE" sz="2000" spc="-1" strike="noStrike">
                <a:solidFill>
                  <a:srgbClr val="ffffff"/>
                </a:solidFill>
                <a:latin typeface="Corbel"/>
              </a:rPr>
              <a:t>Campylobacter jejuni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 (30%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66"/>
                </a:solidFill>
                <a:latin typeface="Corbel"/>
              </a:rPr>
              <a:t>Вируси</a:t>
            </a:r>
            <a:r>
              <a:rPr b="0" lang="sr-CS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 Cytomegalovirusom (10-15%), Epstein-Barrovim virusom (10%) i </a:t>
            </a:r>
            <a:r>
              <a:rPr b="0" i="1" lang="de-DE" sz="2000" spc="-1" strike="noStrike">
                <a:solidFill>
                  <a:srgbClr val="ffffff"/>
                </a:solidFill>
                <a:latin typeface="Corbel"/>
              </a:rPr>
              <a:t>Mycoplasm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-om </a:t>
            </a:r>
            <a:r>
              <a:rPr b="0" i="1" lang="de-DE" sz="2000" spc="-1" strike="noStrike">
                <a:solidFill>
                  <a:srgbClr val="ffffff"/>
                </a:solidFill>
                <a:latin typeface="Corbel"/>
              </a:rPr>
              <a:t>pneumoniae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 (5%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(</a:t>
            </a:r>
            <a:r>
              <a:rPr b="0" i="1" lang="de-DE" sz="2000" spc="-1" strike="noStrike">
                <a:solidFill>
                  <a:srgbClr val="ffffff"/>
                </a:solidFill>
                <a:latin typeface="Corbel"/>
              </a:rPr>
              <a:t>varicella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, zoster, influence, hepatitisa B i C i humane imunodeficijencije – HIV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posle </a:t>
            </a:r>
            <a:r>
              <a:rPr b="0" lang="de-DE" sz="2000" spc="-1" strike="noStrike">
                <a:solidFill>
                  <a:srgbClr val="ffff66"/>
                </a:solidFill>
                <a:latin typeface="Corbel"/>
              </a:rPr>
              <a:t>imunizacije</a:t>
            </a:r>
            <a:r>
              <a:rPr b="0" lang="de-DE" sz="2000" spc="-1" strike="noStrike">
                <a:solidFill>
                  <a:srgbClr val="ffffff"/>
                </a:solidFill>
                <a:latin typeface="Corbel"/>
              </a:rPr>
              <a:t> vakcinama i serumim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Периферни нерви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u="sng">
                <a:solidFill>
                  <a:srgbClr val="ffffff"/>
                </a:solidFill>
                <a:uFillTx/>
                <a:latin typeface="Corbel"/>
              </a:rPr>
              <a:t>Обухвата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1. нерв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2. Ганглион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u="sng">
                <a:solidFill>
                  <a:srgbClr val="ffffff"/>
                </a:solidFill>
                <a:uFillTx/>
                <a:latin typeface="Corbel"/>
              </a:rPr>
              <a:t>У које улаз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66"/>
                </a:solidFill>
                <a:latin typeface="Corbel"/>
              </a:rPr>
              <a:t>Соматски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 (спинални и кранијални нерви –сензитивна и моторна влакна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sr-CS" sz="3000" spc="-1" strike="noStrike">
                <a:solidFill>
                  <a:srgbClr val="ffff66"/>
                </a:solidFill>
                <a:latin typeface="Corbel"/>
              </a:rPr>
              <a:t> аутономни</a:t>
            </a:r>
            <a:r>
              <a:rPr b="0" lang="sr-CS" sz="3000" spc="-1" strike="noStrike">
                <a:solidFill>
                  <a:srgbClr val="ffffff"/>
                </a:solidFill>
                <a:latin typeface="Corbel"/>
              </a:rPr>
              <a:t> нервни систем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1eeff"/>
                </a:solidFill>
                <a:latin typeface="Consolas"/>
              </a:rPr>
              <a:t>GB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брзо прогресивног, монофазног тока, са максималним дефицитом који се код 98% пацијената достиже 4 недеље након њеног почетка, иза чега следи постепени опоравак који траје од неколико недеља до више месеци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симетричних,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доминира проксимална слабости мишића које се развијају у периоду до 4 недеље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благ поремећајима сензибилитет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сметњама ход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асцедентни ток болести са почетном слабошћудоњих екстремитета, затим и мишића руку, лица и респираторне мускулатуре 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ГБС неуролоски налаз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знаци симетричне, глобалне или чешће проксималне слабости мишића екстремитет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Позитивни тестови на истезање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снижени или угашени мишићни рефлекси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као и оштећење свих модалитета сензибилитет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Оштећење кранијалних нерава се среће у око 50% болесника. ( слабошћу мишића лица, Слабост орофарингеалне мускулатуре,у 10-20% поремећај функције булбомотора, најчешће н. абдуценс-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Знаци аутономне дисфункције: тахикардија, брадиаритмија, артеријска хипертензија, хипотензија, поремећај знојења или поремећај мотилитета гастроинтестиналног тракта региструјусе у око две трећине оболелих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КРИТЕРИЈУМ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"/>
          <p:cNvSpPr/>
          <p:nvPr/>
        </p:nvSpPr>
        <p:spPr>
          <a:xfrm>
            <a:off x="900000" y="1631880"/>
            <a:ext cx="7274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НЕОПХОДНИ ЗА ПОСТАВЉАЊЕ ДИЈАГНОЗ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Arial"/>
              </a:rPr>
              <a:t>Прогресивна слабост сва 4 екстремит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Снижени или угашени мишићни рефлекси у захваћеним екстремитети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ПОДРЖАВАЈУЋИ КРИТЕРИЈУ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Прогресија симптома током неколико дана до 4 недељ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Симетрични симпто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Благи сензитивни симптоми и знац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Захватање кранијалних нерава, посебно фацијалног нер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Опоравак након 2-4 недеље од почетка боле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Аутономна дисфункц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Претходна респираторна или гастроинтестинална инфекц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Одсуство фебрилности на почетку боле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ЛАБОРАТОРИЈСКИ КРИТЕРИЈУ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Хиперпротеинорахија са ћелијама до 10/мм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НАЛАЗИ КОЈИ НЕ ИДУ У ПРИЛОГ ГБ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Постојање нивоа сензибилит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Перзистентна асиметрија симптома и знак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Перзистентни поремећај функције сфинкте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Times New Roman"/>
              </a:rPr>
              <a:t>ДИЈАГНОЗУ ИСКЉУЧУЈЕБотулизам, миастенија гравис, полиомијелитис или токсичне неуропатијеПорфиријаДифтеријаМенингеална карциноматоза или лимфоматоз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електромионеурографски (ЕМНГ) преглед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oručuje u trećoj nedelji bolesti i omogućava ne samo definitivnu potvrdu dijagnoze, već i precizno definisanje forme bolest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ipični znaci su postojanje multifokalne demijelinizacije kao i sniženje brzine provođenja kroz periferne nerve sa prisutnim blokovima provođ  95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1eeff"/>
                </a:solidFill>
                <a:latin typeface="Consolas"/>
              </a:rPr>
              <a:t>ЛИКВОР</a:t>
            </a: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c1eeff"/>
                </a:solidFill>
                <a:latin typeface="Times New Roman"/>
              </a:rPr>
              <a:t>90% пацијената  у трећој недељи болести у ликвору региструје</a:t>
            </a:r>
            <a:br>
              <a:rPr sz="1600"/>
            </a:br>
            <a:r>
              <a:rPr b="1" lang="ru-RU" sz="1600" spc="-1" strike="noStrike">
                <a:solidFill>
                  <a:srgbClr val="c1eeff"/>
                </a:solidFill>
                <a:latin typeface="Times New Roman"/>
              </a:rPr>
              <a:t> албуминоцитолошка дисоцијација</a:t>
            </a:r>
            <a:br>
              <a:rPr sz="1600"/>
            </a:br>
            <a:r>
              <a:rPr b="1" lang="ru-RU" sz="1600" spc="-1" strike="noStrike">
                <a:solidFill>
                  <a:srgbClr val="c1eeff"/>
                </a:solidFill>
                <a:latin typeface="Times New Roman"/>
              </a:rPr>
              <a:t> протеина у ликвору (преко 1,5г/л)</a:t>
            </a:r>
            <a:br>
              <a:rPr sz="1600"/>
            </a:br>
            <a:r>
              <a:rPr b="1" lang="ru-RU" sz="1600" spc="-1" strike="noStrike">
                <a:solidFill>
                  <a:srgbClr val="c1eeff"/>
                </a:solidFill>
                <a:latin typeface="Times New Roman"/>
              </a:rPr>
              <a:t> -налаз ћелија уредан </a:t>
            </a:r>
            <a:br>
              <a:rPr sz="1600"/>
            </a:br>
            <a:r>
              <a:rPr b="1" lang="ru-RU" sz="1600" spc="-1" strike="noStrike">
                <a:solidFill>
                  <a:srgbClr val="c1eeff"/>
                </a:solidFill>
                <a:latin typeface="Times New Roman"/>
              </a:rPr>
              <a:t>Олигоклоналне траке се срећу код 5% оболелих.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терап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благе клиничке презентације није индикована примена специфичне имунотерапије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ећ се препоручује само симптоматско лечење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добра нега, хигијенско-дијететски режим и психолошка подршк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болесника са умереном и израженом функционалном онеспособљеношћу спроводи се у јединицама интензивне неге са обавезним континуираним мониторингом виталних функциј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Редовна аспирација, пласирање назогастричне сонде, адекватна рехидратација, лечење потенцијалних инфекција, превенција венских тромбоза, терапија аутономних поремећаја и бола, пасивна и активна физиотерапија су обавезне процедуре у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Специфична имунотерапиј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муноглобулини (ИВИг) се примењују интравенски у иницијалној дози од 0,4г/кг телесне тежине дневно током 5 дан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ерапијске измене плазме (ТИП) се препоручују као терапија првог реда, претежно за лечење умерено тешких и тешких форми болести (ниво А доказ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ТЕРАПИЈСКА ИНДИКАЦ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ТИП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-Непокретни пацијенти током прве 4 недеље болести (ниво А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Покретни пацијенти током прве 2 недеље болести (ниво Б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ИВИг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Непокретни пацијенти током прве 2 недеље болести (ниво А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Непокретни пацијенти током прве 4 недеље болести (ниво Б)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ТИП и ИВИг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Лечење деце са тежим облицима болести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rbel"/>
              </a:rPr>
              <a:t>КортикостеродиНе препоручују се у лечењу ГБС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1eeff"/>
                </a:solidFill>
                <a:latin typeface="Consolas"/>
              </a:rPr>
              <a:t>ХРОНИЧНА ИНФЛАМАТОРНА ДЕМИЈЕЛИНИЗАЦИОНА ПОЛИРАДИКУЛОНЕУРОПАТИЈА(</a:t>
            </a:r>
            <a:r>
              <a:rPr b="1" lang="it-IT" sz="3600" spc="-1" strike="noStrike">
                <a:solidFill>
                  <a:srgbClr val="c1eeff"/>
                </a:solidFill>
                <a:latin typeface="Consolas"/>
              </a:rPr>
              <a:t>CIDP</a:t>
            </a:r>
            <a:r>
              <a:rPr b="1" lang="hr-HR" sz="3600" spc="-1" strike="noStrike">
                <a:solidFill>
                  <a:srgbClr val="c1eeff"/>
                </a:solidFill>
                <a:latin typeface="Consolas"/>
              </a:rPr>
              <a:t>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2637000"/>
            <a:ext cx="77724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0,8 до 9/100.000 становник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 разлику од ГБС, настанку ЦИДП обично не претходи инфективна епизода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утоимуна основи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ТОК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2697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ретким случајевима болест може имати акутни почетак и монофазни ток слично као ГБ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/3 ток болести је споро прогресив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релапсно-ремитент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87280" y="1989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У ретким случајевима болест може имати акутни почетак и монофазни ток слично као ГБ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2/3 ток болести је споро прогресив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1/3 релапсно-ремитент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Периферни нер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Corbel"/>
              </a:rPr>
              <a:t>спинални нерв дистално од корена и плексуса 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Corbel"/>
              </a:rPr>
              <a:t>Садржи бројне фасцикулусе (снопове већег броја аксона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Corbel"/>
              </a:rPr>
              <a:t>Обавијен је продужецима  Шванобих ћелија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7" name="Picture 13" descr="slika 2a.jpg"/>
          <p:cNvPicPr/>
          <p:nvPr/>
        </p:nvPicPr>
        <p:blipFill>
          <a:blip r:embed="rId1"/>
          <a:stretch/>
        </p:blipFill>
        <p:spPr>
          <a:xfrm>
            <a:off x="900000" y="3284640"/>
            <a:ext cx="755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Клиничка сл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гресивним, симетричним развојем слабости мишића два или више екстремитета (  проксималне мускулатуре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штећење сензибилитета  дебела мијелинизирана влакан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Блага аутономна дисфункција  код 2/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лабост респираторне мускулатуре веома ретко присут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евидирани ЕФНС/ПНС електрофизиолошки критеријуми омогућавају постављање дијагнозе дефинитивног ЦИДП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3" name="Picture 5" descr="dijagram 4.4.PNG"/>
          <p:cNvPicPr/>
          <p:nvPr/>
        </p:nvPicPr>
        <p:blipFill>
          <a:blip r:embed="rId1"/>
          <a:srcRect l="8977" t="0" r="3124" b="0"/>
          <a:stretch/>
        </p:blipFill>
        <p:spPr>
          <a:xfrm>
            <a:off x="1116000" y="1125360"/>
            <a:ext cx="7126200" cy="52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terapi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66"/>
                </a:solidFill>
                <a:latin typeface="Corbel"/>
              </a:rPr>
              <a:t>Prednizon</a:t>
            </a:r>
            <a:r>
              <a:rPr b="1" lang="sr-Latn-C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de-DE" sz="2100" spc="-1" strike="noStrike">
                <a:solidFill>
                  <a:srgbClr val="ffffff"/>
                </a:solidFill>
                <a:latin typeface="Corbel"/>
              </a:rPr>
              <a:t>1mg/kg/d. oralno do poboljšanja, lagano snižavanje doze</a:t>
            </a:r>
            <a:r>
              <a:rPr b="0" lang="sr-Latn-CS" sz="21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66"/>
                </a:solidFill>
                <a:latin typeface="Corbel"/>
              </a:rPr>
              <a:t>Pulsne doze kortikosteroida</a:t>
            </a:r>
            <a:r>
              <a:rPr b="0" lang="de-DE" sz="2100" spc="-1" strike="noStrike">
                <a:solidFill>
                  <a:srgbClr val="ffff66"/>
                </a:solidFill>
                <a:latin typeface="Corbel"/>
              </a:rPr>
              <a:t>i.v</a:t>
            </a:r>
            <a:r>
              <a:rPr b="0" lang="de-DE" sz="2100" spc="-1" strike="noStrike">
                <a:solidFill>
                  <a:srgbClr val="ffffff"/>
                </a:solidFill>
                <a:latin typeface="Corbel"/>
              </a:rPr>
              <a:t>. metilprednizolon 0,5-1g/d 3-5 dana mesečno ili</a:t>
            </a:r>
            <a:r>
              <a:rPr b="0" lang="sr-Latn-C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deksametazon 40g/d 4 dana mesečno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66"/>
                </a:solidFill>
                <a:latin typeface="Corbel"/>
              </a:rPr>
              <a:t> </a:t>
            </a:r>
            <a:r>
              <a:rPr b="1" lang="de-DE" sz="2100" spc="-1" strike="noStrike">
                <a:solidFill>
                  <a:srgbClr val="ffff66"/>
                </a:solidFill>
                <a:latin typeface="Corbel"/>
              </a:rPr>
              <a:t>IVIg</a:t>
            </a:r>
            <a:r>
              <a:rPr b="1" lang="sr-Latn-C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de-DE" sz="2100" spc="-1" strike="noStrike">
                <a:solidFill>
                  <a:srgbClr val="ffffff"/>
                </a:solidFill>
                <a:latin typeface="Corbel"/>
              </a:rPr>
              <a:t>2 g/kg tokom 3/5 dana, potom polovina doze mesečno</a:t>
            </a:r>
            <a:r>
              <a:rPr b="0" lang="sr-Latn-CS" sz="21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66"/>
                </a:solidFill>
                <a:latin typeface="Corbel"/>
              </a:rPr>
              <a:t>TIP</a:t>
            </a:r>
            <a:r>
              <a:rPr b="0" lang="de-DE" sz="2100" spc="-1" strike="noStrike">
                <a:solidFill>
                  <a:srgbClr val="ffffff"/>
                </a:solidFill>
                <a:latin typeface="Corbel"/>
              </a:rPr>
              <a:t>50 ml/kg po izmeni, 5-7 TIP na 7-10 dana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66"/>
                </a:solidFill>
                <a:latin typeface="Corbel"/>
              </a:rPr>
              <a:t>Azatioprin</a:t>
            </a:r>
            <a:r>
              <a:rPr b="0" lang="de-DE" sz="2100" spc="-1" strike="noStrike">
                <a:solidFill>
                  <a:srgbClr val="ffffff"/>
                </a:solidFill>
                <a:latin typeface="Corbel"/>
              </a:rPr>
              <a:t>50 mg/d oralno inicijalno, povećati na 2-3mg/kg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66"/>
                </a:solidFill>
                <a:latin typeface="Corbel"/>
              </a:rPr>
              <a:t>Metotrexat</a:t>
            </a:r>
            <a:r>
              <a:rPr b="0" lang="de-DE" sz="2100" spc="-1" strike="noStrike">
                <a:solidFill>
                  <a:srgbClr val="ffffff"/>
                </a:solidFill>
                <a:latin typeface="Corbel"/>
              </a:rPr>
              <a:t>5 mg/nedeljno oralno inicijalno, povećati na 10-20 mg/nedeljno;,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fff66"/>
                </a:solidFill>
                <a:latin typeface="Corbel"/>
              </a:rPr>
              <a:t>Ciklosfosfamid</a:t>
            </a:r>
            <a:r>
              <a:rPr b="0" lang="de-DE" sz="2100" spc="-1" strike="noStrike">
                <a:solidFill>
                  <a:srgbClr val="ffffff"/>
                </a:solidFill>
                <a:latin typeface="Corbel"/>
              </a:rPr>
              <a:t>1-2 mg/kg oralno ili 500-1000 mg/m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Neuropatije udru</a:t>
            </a:r>
            <a:r>
              <a:rPr b="0" lang="sr-Latn-RS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ž</a:t>
            </a:r>
            <a:r>
              <a:rPr b="0" lang="en-US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ene sa</a:t>
            </a:r>
            <a:br>
              <a:rPr sz="2400"/>
            </a:br>
            <a:r>
              <a:rPr b="0" lang="en-US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 IgG. IgM i IgA monoklonskiom gamopatijom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 protein se vezuje za mijelin udru</a:t>
            </a:r>
            <a:r>
              <a:rPr b="0" lang="sr-Latn-RS" sz="1800" spc="-1" strike="noStrike">
                <a:solidFill>
                  <a:srgbClr val="ffffff"/>
                </a:solidFill>
                <a:latin typeface="Corbel"/>
              </a:rPr>
              <a:t>ž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 glikoprotein (MAG), koji je sastavni deo</a:t>
            </a:r>
            <a:r>
              <a:rPr b="0" lang="sr-Latn-R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ijelina perifernog ţivca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mptomi nastaju u šestoj i sedmoj</a:t>
            </a:r>
            <a:r>
              <a:rPr b="0" lang="sr-Latn-R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eceniji, najčešće kod muškaraca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inička slika odgovara senzornoj ili senzomotornojpolineuropatiji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ok je hroničan, progresivan, mada je moguć i spontan oporova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Neuropatije udružene sa</a:t>
            </a:r>
            <a:br>
              <a:rPr sz="2000"/>
            </a:b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 IgG</a:t>
            </a:r>
            <a:r>
              <a:rPr b="0" lang="sr-Latn-RS" sz="2000" spc="-1" strike="noStrike">
                <a:solidFill>
                  <a:srgbClr val="c1eeff"/>
                </a:solidFill>
                <a:latin typeface="Consolas"/>
              </a:rPr>
              <a:t> i</a:t>
            </a: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 IgA monoklonskiom gamopatijom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rećemo kod bolesnika sa multiplim mijelomom, pri čemu je najspecifičnija forma solitarni</a:t>
            </a:r>
            <a:r>
              <a:rPr b="0" lang="sr-Latn-R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steosklertoični mijelom tzv. POEMS sindrom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snovne karakteristike ovog sindroma su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olineuropatije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rganomegalije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dokrinopatije,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 proteina i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o</a:t>
            </a:r>
            <a:r>
              <a:rPr b="0" lang="sr-Latn-RS" sz="1800" spc="-1" strike="noStrike">
                <a:solidFill>
                  <a:srgbClr val="ffffff"/>
                </a:solidFill>
                <a:latin typeface="Corbel"/>
              </a:rPr>
              <a:t>ž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nih promena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olineuropatija je distalnog rasporeda, simetrična senzorimotorna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 protein je IgG ili IgA klasesa lambda lakim lancima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Dijabetična polineuropati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 prvim godinama dijabetesa neuropatija se razvija kod 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10% obolelih,  posle 20 godina kod preko 60% pacijenat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iperglikemija 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kod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tipa DM, tipa 1 i tipa 2,  ima ključnu ulogu u nastanku 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 neuropatij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c1eeff"/>
                </a:solidFill>
                <a:latin typeface="Consolas"/>
              </a:rPr>
              <a:t>Form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971640" y="1773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rbel"/>
              </a:rPr>
              <a:t>Simetričn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 Distalna primarno senzorna polineuropatij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orbel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. Afekcija uglavnom debelih vlakan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orbel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. Mešovi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orbe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. Afekcija uglavnom tankih vlakana 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. Autonomna neuropatij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3. Hronične proksimalne motorne neuropatije a,b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rbel"/>
              </a:rPr>
              <a:t>Asimetričn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1. Akutna ili subakutna proksimalna motorna neuropatija a,b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. Kranijalna mononeuropatijab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3. Trunkalna neuropatija a,b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. Kompresivne neuropatije ekstremite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eeff"/>
                </a:solidFill>
                <a:latin typeface="Consolas"/>
              </a:rPr>
              <a:t>Типична дијабетесна неуропатија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ипична ДН је хронична, симетрична, дистална сензоримоторна неуропатија 80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атогенези  хронична хипергликемија, удружен метаболички дисбаланс и кардиоваскуларни фактори ризика( мирковаскуларне промене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Corbel"/>
              </a:rPr>
              <a:t>п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остепеним, готово неприметним почетком, асцедентним током, са ширењем симптома од прстију стопала навише дуж потколеница, а затим и појавом истих симптома на шакама, и касније подлактицам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о испад сензибилитета по типу „чарапа” и „рукавица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озитивни сензитивни симптоми  боцкања, пецкања или жарења  и болни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Негативни сензитивни симптоми смањеног осећаја за додир- безболним повредама стопала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Моторна влакна  оштећена у каснијим фазама и код тежих форми болести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аутономних влакана постоји танка и сува кожа, трофички измењени нокти, едем стопала  улкуса стопала и могућу ампутацију екстремитета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Грађа нерв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736720" cy="36878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3"/>
          <p:cNvSpPr/>
          <p:nvPr/>
        </p:nvSpPr>
        <p:spPr>
          <a:xfrm>
            <a:off x="1042920" y="191628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Аксон је обавијен Швановим ћелијама-мијелином и нал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и се унутар  </a:t>
            </a:r>
            <a:r>
              <a:rPr b="1" lang="sr-RS" sz="1800" spc="-1" strike="noStrike" u="sng">
                <a:solidFill>
                  <a:srgbClr val="ffffff"/>
                </a:solidFill>
                <a:uFillTx/>
                <a:latin typeface="Arial"/>
              </a:rPr>
              <a:t>ендонеуриума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(омотач везивног ткива са крвним судовим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апилари који потичу од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vasa 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rvorum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ваки фасцикулус  обавијен је </a:t>
            </a:r>
            <a:r>
              <a:rPr b="1" lang="sr-RS" sz="1800" spc="-1" strike="noStrike" u="sng">
                <a:solidFill>
                  <a:srgbClr val="ffffff"/>
                </a:solidFill>
                <a:uFillTx/>
                <a:latin typeface="Arial"/>
              </a:rPr>
              <a:t>перинеуриумом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( везивни омотач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Цео нерв омотан </a:t>
            </a:r>
            <a:r>
              <a:rPr b="1" lang="sr-RS" sz="1800" spc="-1" strike="noStrike" u="sng">
                <a:solidFill>
                  <a:srgbClr val="ffffff"/>
                </a:solidFill>
                <a:uFillTx/>
                <a:latin typeface="Arial"/>
              </a:rPr>
              <a:t>епинеуриу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дијагноз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Анамнеза и неуролошки прегле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ЕМНГ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Лабораторија:ККС, електролити, јетра, бубрези, тироидна, инфламаторни маркери, тумор маркери, вит Д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2,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гликемија, ХИБ , ат на ББ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395280" y="62064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novni principi terapije DN su: 1) optimalna glikoregulacija; 2) elimina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1258920" y="260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4800" spc="-1" strike="noStrike">
                <a:solidFill>
                  <a:srgbClr val="ffffff"/>
                </a:solidFill>
                <a:latin typeface="Arial"/>
              </a:rPr>
              <a:t>Terapij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95280" y="150336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optimalna glikoregulacij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eliminacija faktora rizika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jaznost, upotreba alkohola, pušenj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simptomatska terapij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ada je pozitivan terpijskiefekat zapaţen pri primeni inhibitora aldolaze-reduktaz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lipoične kiseline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linoleinske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se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imptomatska terapija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otklanjanje neuropatskog bola i neprijatnih senzacija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iklični antidepresivi, antiepileptic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čenje dijabetične amiotrofije-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enom IVIg u dozi od 0.4g/kg pet dana, potom se nastavlja sa kortikosteroid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"/>
          <p:cNvSpPr/>
          <p:nvPr/>
        </p:nvSpPr>
        <p:spPr>
          <a:xfrm>
            <a:off x="539640" y="907920"/>
            <a:ext cx="835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Uremijska polineuropatija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 više od dve trećine bolesnika sa znacima hronične bubreţneinsuficijencije postoje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naci distalne senzomotorne polineuropat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onalno-demijelnizaci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Terapij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ena dijalize često ne dovodi do poboljšanja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ransplantacije bubre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Polineuropatije kod bolesti jetre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d bolesnika sa hroničnom hepatičnom insuficijencijom,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patitisom, bilijarnom cirozom sreću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dominatno senzorne aksonalne polineuropat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koholna neuropatija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staju usled deficitarne ishrane i toksičnog dejstva alkohol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lnoj simetričnoj polineuropatijisa oštećenjem senzitivnih, motornih i autonomnih vlaka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arna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onalna degeneraci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čenje-Prestanak konzumiranja alkohola, poboljšanje ishrane,adekvatan unos vitamina, naročito B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2"/>
          <p:cNvSpPr/>
          <p:nvPr/>
        </p:nvSpPr>
        <p:spPr>
          <a:xfrm>
            <a:off x="1476360" y="4762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Arial"/>
              </a:rPr>
              <a:t>Metaboličke polineuropati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Порфирична неуропатија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Порфирија представља групу болести код којих постоји урођени дефект метаболизма порфири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Наслеђивање је аутосомно доминатно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поремећаја метаболизма хема у јетри и то код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акутне интермитетне порфирије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хередитарнекопропорфириј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и код профирије вариегат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Порфирична неуропат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сновне клиничке карактеристике интермитентих атака су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бдоминалне колике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сихички поремећаји( делирантна стања и психозе.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пилептични напади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уропатије уз постојање вегетативне дисфункције –личи на ГБС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Порфирична неуропатиј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нфузија хипертоничних раствора гликозе до 500грама у току 24х, пошто гликоза супримира биосинтентски пут хема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ематин – се даје у дози 4мг/кг ив. сваких12х сати у периоду од 3-6 дана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налгетика, антибиотика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иговање електорилтног дисбаланса, нарочито хипонатремије, примену бета блокатора,пропанолола, због тахикардије, а хлорпромазина за смирење болесника, примена антибиотика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ливитаминске терапије, исхрана богата угљеним хидратима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пилептични напади се лече диазепамом интравенски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филакса напада акутне интермитентне порфирије обухвата забрану употребе контраиндикованих лекова  (барбитурати,сулфонамиди, естрогени, орална контрацептивна средства, фенитоин ), уз контролисање исхране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nsolas"/>
              </a:rPr>
              <a:t>МЕТАБОЛИЧКЕ НЕУРОПАТИЈЕ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Consolas"/>
              </a:rPr>
              <a:t>Неуропатије услед дефицита (Б1,Б2,Б6, Б12,витамин Е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00000" y="2421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ефицити витамина обично настају као последиц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алнутриције или малабсорбције у склопу различитих гастроинтестиналних обољењ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Лекови као што су изонијазид, хидралазин ометају нормалан метаболизам витамина и при дуţој употреби могу изазвати оштећење периферних нерав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Deficit vitamina B1, B2, B6, B12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0000" y="1484280"/>
            <a:ext cx="77868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etričnih predominantno</a:t>
            </a:r>
            <a:r>
              <a:rPr b="0" lang="sr-Latn-R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zornih polineuropatija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t vitamina E dovodi do ispoljavanja aksonalne senzorne</a:t>
            </a:r>
            <a:r>
              <a:rPr b="0" lang="sr-Latn-R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atije sa izra</a:t>
            </a:r>
            <a:r>
              <a:rPr b="0" lang="sr-Latn-R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ž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m ataksijom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čenje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sniva se na adekvatnoj korekciji deficita vitamina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evne doze koje se preporučuju</a:t>
            </a:r>
            <a:r>
              <a:rPr b="0" lang="sr-Latn-R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ficit vitamina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-50mg,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B2 100mg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B6 100mg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vitamin E 100 IJ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tamin B12 je 1000ug dnevno i.m. dve nedelje, potom dva puta nedeljno godinu dana. Doza</a:t>
            </a:r>
            <a:r>
              <a:rPr b="0" lang="sr-Latn-R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r</a:t>
            </a:r>
            <a:r>
              <a:rPr b="0" lang="sr-Latn-R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ž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nja vitamina B12 je 1000ug mesečno u vidu im.injekcija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018720" cy="60498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"/>
          <p:cNvSpPr/>
          <p:nvPr/>
        </p:nvSpPr>
        <p:spPr>
          <a:xfrm>
            <a:off x="179280" y="5445000"/>
            <a:ext cx="88394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179280" y="549360"/>
            <a:ext cx="324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684360" y="62064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Класификација три основна  типа влак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c1eeff"/>
                </a:solidFill>
                <a:latin typeface="Consolas"/>
              </a:rPr>
              <a:t>Kopresivne  неуропатије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ајчешће мононеуропатије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Директна повреда, компресија нерва или укљештењ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ачешћеје неуропатије н. Медиануса-синдром карпалног тунела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Белова паралиѕа н. фациалис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Sindrom kanala ručja /Carpal </a:t>
            </a:r>
            <a:r>
              <a:rPr b="0" lang="sr-Latn-RS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 </a:t>
            </a:r>
            <a:r>
              <a:rPr b="0" lang="sv-SE" sz="2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tunnel sindrom/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N. medianus  u karpalnom tunelu . Uklještenost nerva posledica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prekomernog korišćenja ručnog zgloba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tendosinovitisa sa artritisom il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lokalne</a:t>
            </a:r>
            <a:r>
              <a:rPr b="0" lang="sr-Latn-R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infiltracije npr. hipertrofije vezivnog tkiva kao u slučaju akromegalije,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prisustva amilodnih</a:t>
            </a:r>
            <a:r>
              <a:rPr b="0" lang="sr-Latn-R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depozita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ili u sklopu mukopolisaharidoza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61" name="Picture 5" descr="D:\Zorica Stević\tekst\Poglavlje 11 Kacar A Kompres N tekst_files\CRTEZ 3_sređen FINAL.jpg"/>
          <p:cNvPicPr/>
          <p:nvPr/>
        </p:nvPicPr>
        <p:blipFill>
          <a:blip r:embed="rId1"/>
          <a:stretch/>
        </p:blipFill>
        <p:spPr>
          <a:xfrm>
            <a:off x="5580000" y="3500280"/>
            <a:ext cx="2938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Carpal </a:t>
            </a:r>
            <a:r>
              <a:rPr b="0" lang="sr-Latn-RS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 </a:t>
            </a:r>
            <a:r>
              <a:rPr b="0" lang="sv-SE" sz="28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tunnel sindrom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3" name="Picture 14" descr="hipotrofija%20m"/>
          <p:cNvPicPr/>
          <p:nvPr/>
        </p:nvPicPr>
        <p:blipFill>
          <a:blip r:embed="rId1"/>
          <a:stretch/>
        </p:blipFill>
        <p:spPr>
          <a:xfrm>
            <a:off x="900000" y="3429000"/>
            <a:ext cx="2862360" cy="27781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9" descr="trnjenje bol"/>
          <p:cNvPicPr/>
          <p:nvPr/>
        </p:nvPicPr>
        <p:blipFill>
          <a:blip r:embed="rId2"/>
          <a:stretch/>
        </p:blipFill>
        <p:spPr>
          <a:xfrm>
            <a:off x="4500720" y="3429000"/>
            <a:ext cx="3271680" cy="3024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900000" y="1844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lavni simptom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stezije palca, ka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rsta i srednjeg prsta koje se javljaju najčesće noć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bost i atrofija m. abductor pollicis brevisa (mišića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ara 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NDROM KANALA RUČJA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erapija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 u="sng">
                <a:solidFill>
                  <a:srgbClr val="ffff00"/>
                </a:solidFill>
                <a:uFillTx/>
                <a:latin typeface="Corbel"/>
              </a:rPr>
              <a:t>I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Corbel"/>
              </a:rPr>
              <a:t> početne tegobe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imobilizacija, izbegavanje rizičnih pokreta, nesteroidni antireumatici, manje doze diuretika,lokalna aplikacija heparinske kreme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Corbe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Corbel"/>
              </a:rPr>
              <a:t>II jaki simptomi bez znakova oštećenja medianusa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injekcija depo preparata kortikosteroida u kanal ručja (0,75 ml = 20 mg uljanog rastvora</a:t>
            </a:r>
            <a:r>
              <a:rPr b="0" lang="sr-Latn-R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hidrokortizona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Corbel"/>
              </a:rPr>
              <a:t>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Corbel"/>
              </a:rPr>
              <a:t>III definitivni znaci oštećenja medianu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hirurška dekompresija (presecanje lig. carpi transv.)dilatacija kanala ručja balon kateterom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Kopresija n ulnari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9" name="Picture 72" descr="CRTEZ 5_sređen.jpg"/>
          <p:cNvPicPr/>
          <p:nvPr/>
        </p:nvPicPr>
        <p:blipFill>
          <a:blip r:embed="rId1"/>
          <a:stretch/>
        </p:blipFill>
        <p:spPr>
          <a:xfrm>
            <a:off x="4859280" y="2997360"/>
            <a:ext cx="3895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Kopresija n ulnari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71" name="Picture 13" descr="hipotrofija FDI"/>
          <p:cNvPicPr/>
          <p:nvPr/>
        </p:nvPicPr>
        <p:blipFill>
          <a:blip r:embed="rId1"/>
          <a:stretch/>
        </p:blipFill>
        <p:spPr>
          <a:xfrm>
            <a:off x="4788000" y="3357720"/>
            <a:ext cx="3440160" cy="2735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fdi2.jpg"/>
          <p:cNvPicPr/>
          <p:nvPr/>
        </p:nvPicPr>
        <p:blipFill>
          <a:blip r:embed="rId2"/>
          <a:stretch/>
        </p:blipFill>
        <p:spPr>
          <a:xfrm>
            <a:off x="1258920" y="3213000"/>
            <a:ext cx="2305080" cy="28800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684360" y="1407240"/>
            <a:ext cx="7920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ffff66"/>
                </a:solidFill>
                <a:latin typeface="Arial"/>
              </a:rPr>
              <a:t>ukočenosti, trnjenja i smanjenje osećaja dodira u zoni inervacije ovog nerv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ffff66"/>
                </a:solidFill>
                <a:latin typeface="Arial"/>
              </a:rPr>
              <a:t>bol koji se propagira u lakat uz pozitivan Tinelov znak u predelu lak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ffff66"/>
                </a:solidFill>
                <a:latin typeface="Arial"/>
              </a:rPr>
              <a:t>motorne disfunkcije može biti nemogućnost abdukcije petog prsta (Wartenbergov znak), dok sa progresijom bolesti, nastaje slabost fleksije i trofike unutrašnjih mišića š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Kopresija n radiali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75" name="Picture 18" descr="CRTEZ 7_sređen"/>
          <p:cNvPicPr/>
          <p:nvPr/>
        </p:nvPicPr>
        <p:blipFill>
          <a:blip r:embed="rId1"/>
          <a:stretch/>
        </p:blipFill>
        <p:spPr>
          <a:xfrm>
            <a:off x="1711440" y="1784520"/>
            <a:ext cx="617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Kopresija n radiali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77" name="Picture 19" descr="image027_sređena"/>
          <p:cNvPicPr/>
          <p:nvPr/>
        </p:nvPicPr>
        <p:blipFill>
          <a:blip r:embed="rId1"/>
          <a:stretch/>
        </p:blipFill>
        <p:spPr>
          <a:xfrm>
            <a:off x="1258920" y="3470400"/>
            <a:ext cx="3384360" cy="27669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0" descr="trnjenje"/>
          <p:cNvPicPr/>
          <p:nvPr/>
        </p:nvPicPr>
        <p:blipFill>
          <a:blip r:embed="rId2"/>
          <a:srcRect l="0" t="0" r="8932" b="8279"/>
          <a:stretch/>
        </p:blipFill>
        <p:spPr>
          <a:xfrm>
            <a:off x="5364000" y="3860640"/>
            <a:ext cx="3216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ARANEOPLASTIČNE NEUROPAT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neoplastični sindromi se javljaju u 1% svih bolesnika sa kancerogenim oboljenjima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.5% svih bolesnika sa neoplazmama registruju se različti oblici neuropatij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astične neuropatije se javljaju 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 toku ili n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 dijagnostikovanja neoplazm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jčešće su : SUBAKUTNA SENZORNA NEURONOPATIJ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poliklonska anti Hu ant/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c1eeff"/>
                </a:solidFill>
                <a:latin typeface="Consolas"/>
              </a:rPr>
              <a:t>ХЕРЕДИТАРНЕ неуропатије</a:t>
            </a:r>
            <a:br>
              <a:rPr sz="3200"/>
            </a:br>
            <a:r>
              <a:rPr b="1" lang="en-GB" sz="3200" spc="-1" strike="noStrike">
                <a:solidFill>
                  <a:srgbClr val="c1eeff"/>
                </a:solidFill>
                <a:latin typeface="Consolas"/>
              </a:rPr>
              <a:t>Modifikovana klasifikacija Dyck-a i Lambert-a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182600" y="2017800"/>
            <a:ext cx="77724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HMSN I (CMT 1) (hipertrofički tip, demijelinizaciona lezija)</a:t>
            </a:r>
            <a:r>
              <a:rPr b="0" lang="ar-SA" sz="2400" spc="-1" strike="noStrike">
                <a:solidFill>
                  <a:srgbClr val="ffffff"/>
                </a:solidFill>
                <a:latin typeface="Corbe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HMSN II (CMT 2) (neuronalni tip, aksonalna degeneracija)</a:t>
            </a:r>
            <a:r>
              <a:rPr b="0" lang="ar-SA" sz="2400" spc="-1" strike="noStrike">
                <a:solidFill>
                  <a:srgbClr val="ffffff"/>
                </a:solidFill>
                <a:latin typeface="Corbe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HMSN III (Dejerine-Sottas-ova hipertrofička neuropatija)</a:t>
            </a:r>
            <a:r>
              <a:rPr b="0" lang="ar-SA" sz="2400" spc="-1" strike="noStrike">
                <a:solidFill>
                  <a:srgbClr val="ffffff"/>
                </a:solidFill>
                <a:latin typeface="Corbe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HMSN IV ( Refsum-ova bolest, bolest deponovanja fitanske kiseline, u suštini sekundarna nasledna neuropatija)</a:t>
            </a:r>
            <a:r>
              <a:rPr b="0" lang="ar-SA" sz="2400" spc="-1" strike="noStrike">
                <a:solidFill>
                  <a:srgbClr val="ffffff"/>
                </a:solidFill>
                <a:latin typeface="Corbe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HMSN V (udružena sa spastičkom paraplegijom)</a:t>
            </a:r>
            <a:r>
              <a:rPr b="0" lang="ar-SA" sz="2400" spc="-1" strike="noStrike">
                <a:solidFill>
                  <a:srgbClr val="ffffff"/>
                </a:solidFill>
                <a:latin typeface="Corbe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HMSN VI (udružena sa atrofijom optikusa)</a:t>
            </a:r>
            <a:r>
              <a:rPr b="0" lang="ar-SA" sz="2400" spc="-1" strike="noStrike">
                <a:solidFill>
                  <a:srgbClr val="ffffff"/>
                </a:solidFill>
                <a:latin typeface="Corbe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HMSN VII (udružena sa retinitis pigmentosa)</a:t>
            </a:r>
            <a:r>
              <a:rPr b="0" lang="ar-SA" sz="2400" spc="-1" strike="noStrike">
                <a:solidFill>
                  <a:srgbClr val="ffffff"/>
                </a:solidFill>
                <a:latin typeface="Corbe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1eeff"/>
                </a:solidFill>
                <a:latin typeface="Consolas"/>
              </a:rPr>
              <a:t>Основни типови оштећења периферног нерва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36" name="Picture 4" descr="D:\acta clinica\knjiga\stevic\stevic 1\stevic2\slika 04.jpg"/>
          <p:cNvPicPr/>
          <p:nvPr/>
        </p:nvPicPr>
        <p:blipFill>
          <a:blip r:embed="rId1"/>
          <a:stretch/>
        </p:blipFill>
        <p:spPr>
          <a:xfrm>
            <a:off x="755640" y="2205000"/>
            <a:ext cx="68644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liničke karakteristike HMSN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ro progresivne slabosti i atrofije distalnih mišića ekstremiteta, primarno mišića stopala i peronealnih</a:t>
            </a: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išić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metrično distalno oštećenje svih</a:t>
            </a: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odaliteta senzibilite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formacije stopala, pes cavus i kandžasta</a:t>
            </a: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formacija prstiju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išićni refleksi su ugašeni, najpre Ahilov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ipotrofije potkolenica i donje trećine natkolenica daju sliku izvrnute šampanjske boce (“rodine noge”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arakteristično izmenjen, peronealni, petlov hod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" descr=""/>
          <p:cNvPicPr/>
          <p:nvPr/>
        </p:nvPicPr>
        <p:blipFill>
          <a:blip r:embed="rId1"/>
          <a:stretch/>
        </p:blipFill>
        <p:spPr>
          <a:xfrm>
            <a:off x="1766880" y="2017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5729400" y="20178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"/>
          <p:cNvPicPr/>
          <p:nvPr/>
        </p:nvPicPr>
        <p:blipFill>
          <a:blip r:embed="rId3"/>
          <a:stretch/>
        </p:blipFill>
        <p:spPr>
          <a:xfrm>
            <a:off x="2268360" y="4149720"/>
            <a:ext cx="1816200" cy="2421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4"/>
          <a:stretch/>
        </p:blipFill>
        <p:spPr>
          <a:xfrm>
            <a:off x="6156360" y="4149720"/>
            <a:ext cx="1782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1" descr=""/>
          <p:cNvPicPr/>
          <p:nvPr/>
        </p:nvPicPr>
        <p:blipFill>
          <a:blip r:embed="rId1"/>
          <a:stretch/>
        </p:blipFill>
        <p:spPr>
          <a:xfrm>
            <a:off x="1623960" y="212400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" descr=""/>
          <p:cNvPicPr/>
          <p:nvPr/>
        </p:nvPicPr>
        <p:blipFill>
          <a:blip r:embed="rId2"/>
          <a:stretch/>
        </p:blipFill>
        <p:spPr>
          <a:xfrm>
            <a:off x="5586480" y="2124000"/>
            <a:ext cx="292572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1" descr=""/>
          <p:cNvPicPr/>
          <p:nvPr/>
        </p:nvPicPr>
        <p:blipFill>
          <a:blip r:embed="rId1"/>
          <a:stretch/>
        </p:blipFill>
        <p:spPr>
          <a:xfrm>
            <a:off x="1216080" y="2017800"/>
            <a:ext cx="5337000" cy="411480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2"/>
          <p:cNvSpPr/>
          <p:nvPr/>
        </p:nvSpPr>
        <p:spPr>
          <a:xfrm>
            <a:off x="45720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</a:rPr>
              <a:t>HMSN I (CMT1) – Autosomno-dominantna hipertrofično-demijelinizaciona CM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-577800" y="3537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41828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1eeff"/>
                </a:solidFill>
                <a:latin typeface="Consolas"/>
              </a:rPr>
              <a:t>Класификација  болести периферних нерава</a:t>
            </a:r>
            <a:r>
              <a:rPr b="1" lang="sr-CS" sz="2800" spc="-1" strike="noStrike">
                <a:solidFill>
                  <a:srgbClr val="c1eeff"/>
                </a:solidFill>
                <a:latin typeface="Consolas"/>
              </a:rPr>
              <a:t> Неуропатије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еуропатије представњају оштећење периферног  Н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остоје две  основне груп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66"/>
                </a:solidFill>
                <a:latin typeface="Times New Roman"/>
              </a:rPr>
              <a:t>Наследне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-примарне(мутација гена  за мијелин или аксон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-секундарне ( порфириј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sr-RS" sz="2000" spc="-1" strike="noStrike">
                <a:solidFill>
                  <a:srgbClr val="ffff66"/>
                </a:solidFill>
                <a:latin typeface="Times New Roman"/>
              </a:rPr>
              <a:t>Стечен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Моторне неуропат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Сензорне  неуропат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Сензо-моторне неуропат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rbel"/>
              </a:rPr>
              <a:t>Аутономне неуропат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Према типу нерава који су оштећен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ki vuckovic</dc:creator>
  <dc:description/>
  <dc:language>en-US</dc:language>
  <cp:lastModifiedBy>Info</cp:lastModifiedBy>
  <dcterms:modified xsi:type="dcterms:W3CDTF">2019-01-30T10:46:50Z</dcterms:modified>
  <cp:revision>85</cp:revision>
  <dc:subject/>
  <dc:title>PERIFERNE NEUROPATIJE</dc:title>
</cp:coreProperties>
</file>